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125-AD80-42B8-8A3B-EA281CA8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25D-EB26-4086-B7BE-880D44B4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CA8-A82B-4A3D-BF8F-C4D609B3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DFE-D2CF-4379-A613-C6D7D77D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8D8-273B-4E7B-B22E-A1787A92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AAA-39DB-4D8A-89A9-CC02B4A8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346-30F0-4B71-A166-B200B7AD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2FB-4D69-41C6-B52E-5CB5EF2F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401-F993-4208-A40A-01EC8B25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A8F-1690-49D1-9B52-C86CD21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A8F-C39B-4187-8DC0-230F8778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53F-4E07-4A5E-AFCA-AF078B74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CF99-3045-4B30-8324-8E4EA1DFB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aisin in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raine Hansb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sin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working in groups to research background knowled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will be working together on a packe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is responsible for ALL questions in the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answer all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rdonoghue.wikispaces.com for links to websites. ALSO USE GOO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for the Scrapbook are in the back. This is homework due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reading day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 Cloud due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ll of the W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work sheets for the chapters by Friday. (Extras will be available tomorr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 extended to Tuesday 12/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14:29Z</dcterms:created>
  <dc:creator>RVCSchools</dc:creator>
  <dc:description/>
  <dc:language>en-US</dc:language>
  <cp:lastModifiedBy>RVCSchools</cp:lastModifiedBy>
  <dcterms:modified xsi:type="dcterms:W3CDTF">2010-12-15T14:14:44Z</dcterms:modified>
  <cp:revision>2</cp:revision>
  <dc:subject/>
  <dc:title>A Raisin in the Sun</dc:title>
</cp:coreProperties>
</file>